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7.wmf" ContentType="image/x-wmf"/>
  <Override PartName="/ppt/media/image9.wmf" ContentType="image/x-wmf"/>
  <Override PartName="/ppt/media/image6.gif" ContentType="image/gif"/>
  <Override PartName="/ppt/media/image11.png" ContentType="image/png"/>
  <Override PartName="/ppt/media/image19.wmf" ContentType="image/x-wmf"/>
  <Override PartName="/ppt/media/image1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jpeg" ContentType="image/jpeg"/>
  <Override PartName="/ppt/media/image16.wmf" ContentType="image/x-wmf"/>
  <Override PartName="/ppt/media/image10.wmf" ContentType="image/x-wmf"/>
  <Override PartName="/ppt/media/image4.jpeg" ContentType="image/jpeg"/>
  <Override PartName="/ppt/media/image14.wmf" ContentType="image/x-wmf"/>
  <Override PartName="/ppt/media/image2.jpeg" ContentType="image/jpeg"/>
  <Override PartName="/ppt/media/image3.wmf" ContentType="image/x-wmf"/>
  <Override PartName="/ppt/media/image15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D76-9C1D-4F98-9AD4-BD793B7A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E11-FF16-4D5B-8007-5D1DCC6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DA7-E184-4442-8406-A64E1643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0115-6565-458A-86CF-21013573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3EAB-D91F-4F76-8B76-70DD4C9C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C4E6-1331-497B-9772-FD9C9142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2FB7-67AC-4529-8EF5-E72A8334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7E46-5E25-4C27-A217-5F94E442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923B9-1AF0-4E80-AB2F-E9C75E2A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30BF-1A26-460B-87BD-33F3183A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4C42-874A-4915-A640-4CFD420E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486-E3A4-487B-BF7D-F8322B2E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628-8DEB-4E1A-AE95-D9A342C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2EED-C564-4801-9A07-6B33D10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B866-A2B3-4BCF-BB5F-728821E3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8472-21A1-4CD9-97D6-15803568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374B-B2E0-4B2F-BF5B-FF1B24E6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5A0B-313B-4801-8B7C-189DC542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36B-CDBA-49DC-94CB-8709490B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7FC-8039-40E0-938C-2C70640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7B5-D9A8-458D-A685-B0794321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80E7-B3B3-476C-8DD9-BB78C66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DBD-E588-45C0-88BC-0F4C49C3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57E5-7596-498A-9074-3E6E5CD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C05-7EFB-41C5-9E01-C52A55D11C1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FA9-FE5D-4249-8738-A6D13C5D284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The Road to Revolution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4920" y="5715000"/>
            <a:ext cx="7162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itain &amp; Her Colonies Grow Ap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272412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ritain Tries to Back Up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ownshend Duties of 176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ea, glass, paper, lead, pa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indirect tax (paid by merchan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venue used to pay colonial officials previously paid by legislat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writs of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epealed 1770 except for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t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934320" y="4724280"/>
            <a:ext cx="18651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Colonial Resistan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ycot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s &amp; Daughters of Liberty (176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achusetts Circular Letter of 1768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etters from a Farmer in Pennsylvania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Dickins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ittees of Correspondence (177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ring &amp; feathe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ging in effi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customs ship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Gaspe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urned in R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1793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Tarring and Feather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3290760" cy="46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ahoma"/>
              </a:rPr>
              <a:t>Massachusetts Circular Letter, 1768 (Sam Adams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opposition to Townshend Du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cts made there, imposing duties on the people of this province, with the sole and express purpose of raising a revenue, are infringements of their natural and constitutional rights; because, as they are not represented in the British Parliament, his Majesty's Commons in Britain, by those acts, grant their property without their consent”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etters from a Farmer, 1767 (John Dickinson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series of letters in response to British a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 dreadful stroke is aimed at the liberty of these colonies”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oston Massacr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 5, 177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ops in Boston to enforce Townshend A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 building between colonists &amp; British sold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ght at the rope 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ation with young bo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owballs &amp; clu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3161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oston Massacre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e!” or “Don’t fire!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 d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m Adams’ “massacr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ul Revere’s engra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hn Adams defends British soldi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found not guil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31616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Revere’s Engraving:</a:t>
            </a:r>
            <a:br>
              <a:rPr sz="4400"/>
            </a:b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     </a:t>
            </a:r>
            <a:r>
              <a:rPr b="1" i="1" lang="en-US" sz="4000" spc="-1" strike="noStrike">
                <a:solidFill>
                  <a:srgbClr val="0066ff"/>
                </a:solidFill>
                <a:latin typeface="Tahoma"/>
              </a:rPr>
              <a:t>What is the Message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895480" y="1996920"/>
            <a:ext cx="42516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Boston Tea Party 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(Dec 16, 1773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Tea Ac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ritish East India Co monopoly on tea to colon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Indians” dump all the tea in Boston Harbor ($75,00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other colonies sympathize with Massachuset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ff"/>
                </a:solidFill>
                <a:latin typeface="Tahoma"/>
              </a:rPr>
              <a:t>call for inter-colonial congr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ercive/Intolerable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rt of Boston clos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elf-government reduced; Gage military govern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oyal officials tried in Brit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ritish troops quartered in private ho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Quebec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Roman Catholicis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o representative gover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oundary of Quebec to Ohio Ri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237360" y="4624560"/>
            <a:ext cx="2906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First Continental Congres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, September 177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cals, moderates, conservat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Declaration of Rights &amp; Grieva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uffolk Resol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peal of Intolerable A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oycot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ilitary prepa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The Associ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66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congress May 1775 if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3352680"/>
            <a:ext cx="186552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Mercanti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ealth =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lonies sources of raw materials &amp; food &amp; markets for manufactured goo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ade &amp; Navigation Acts (165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oods carried only in English sh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numerated commod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uties paid by colonies in England on goods to &amp; from Europ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6920" y="152280"/>
            <a:ext cx="23857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Lexington &amp; Concor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ril 19, 17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trying to capture military supplies in Con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arching for Sam Adams &amp; John Hanc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One if by land, two if by se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The Regulars are coming!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Paul Revere &amp; William Daw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utemen on Lexington Green; 8 ki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repulsed at Concord’s North Bri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chased back to Boston; 250 casualt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hot heard ‘round the world”: </a:t>
            </a: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War had begu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8120" y="914400"/>
            <a:ext cx="22939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Early Legisl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olen Act of 169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t Act of 173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lasses Act of 173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on Act of 175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s of as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real enforcement by Bri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muggling by colon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licy of “salutary neglec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95880" y="1981080"/>
            <a:ext cx="2286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French &amp; Indian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valry between Britain &amp; Fra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1754-176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erritorial cl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ur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ttles in the Ohio Valley &amp; Great Lakes regions &amp;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attle of Quebec decis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1279440" cy="1277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038480" y="2819520"/>
            <a:ext cx="1746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     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Results of F&amp;I War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nch out of North Ame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of Native Americans re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sts’ respect for British damag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land for the tak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ain puts troops in th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itain heavily in de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ritain begins enforcing tax law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British Point of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was for defense of colonies so they should help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eded to exercise more contr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nger from Native Amer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ntiac’s Rebellion;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oclamation of 176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ical policy toward colonies within emp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07784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Colonial Point of Vie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not so t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nce g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can handle Native Americ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d, land,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rust of standing arm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uggl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salutary neglect”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why the crackdown on taxes now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to 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independence &amp; self-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1461960" cy="1127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252440" cy="1214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95680" y="5684760"/>
            <a:ext cx="1527120" cy="11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arting Down the Road   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gar Act/Revenue Act of 176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lower duties on molasses to stop smugg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muggling cases tried in admiralty courts (no ju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Quartering Act of 17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lonists must provide food &amp; shelter for British troo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mp Act of 176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irst direct ta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amp required on all official doc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ffected all colonists, especially merchants &amp;  lawy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ahoma"/>
              </a:rPr>
              <a:t>Reaction to Stamp Ac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tamp Act Congress in NY 176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nies com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ycotts of British go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No Taxation Without Representation!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vs. direct repres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tamp Act repealed 176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Declaratory Act of 1766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“in all cases whatsoever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9880" y="5425920"/>
            <a:ext cx="1909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6:03:47Z</dcterms:created>
  <dc:creator>epilla</dc:creator>
  <dc:description/>
  <dc:language>en-US</dc:language>
  <cp:lastModifiedBy>epilla</cp:lastModifiedBy>
  <dcterms:modified xsi:type="dcterms:W3CDTF">2011-11-16T15:18:59Z</dcterms:modified>
  <cp:revision>25</cp:revision>
  <dc:subject/>
  <dc:title>The Road to Revolution </dc:title>
</cp:coreProperties>
</file>